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8834-AFC3-41D0-BD9E-2C3B8D12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3253-C527-49FE-BE10-D5E0A451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F78-81F5-41A3-8568-F79B5EBE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23E3-0C44-4ED3-8B5E-0BACE247F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CFD-081E-4751-9DBA-6636DB3F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5B9F-3D69-418A-8ED5-D86F8FCE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98AB-5850-4D40-9337-0C244C03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C03D-25FC-4E8A-936C-E789E40A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DD78-CA28-4E87-8288-82A1A537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ACDB-F346-46C1-8B23-BCD6CA58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B9A-D3D4-4496-BBFC-09583F5F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7114-C6CA-4D47-9A8C-6F34B525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8735-FAA5-48E1-8E08-0060E599B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650880"/>
            <a:ext cx="864216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56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توبة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مائد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تو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التو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9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47973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براء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فتتاح السورة بها ولانها أظهرت البراءة من المشركين والمناف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79280" y="3429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5"/>
          <p:cNvSpPr/>
          <p:nvPr/>
        </p:nvSpPr>
        <p:spPr>
          <a:xfrm flipH="1">
            <a:off x="4642920" y="380988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6"/>
          <p:cNvSpPr/>
          <p:nvPr/>
        </p:nvSpPr>
        <p:spPr>
          <a:xfrm flipH="1" flipV="1">
            <a:off x="1547640" y="4046400"/>
            <a:ext cx="604872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343400"/>
            <a:ext cx="2087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خز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8"/>
          <p:cNvCxnSpPr/>
          <p:nvPr/>
        </p:nvCxnSpPr>
        <p:spPr>
          <a:xfrm>
            <a:off x="7596000" y="40831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6732720" y="4354560"/>
            <a:ext cx="15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راء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0"/>
          <p:cNvCxnSpPr/>
          <p:nvPr/>
        </p:nvCxnSpPr>
        <p:spPr>
          <a:xfrm>
            <a:off x="1547280" y="404604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27160" y="5300640"/>
            <a:ext cx="8665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توبة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فيها التوبة على المؤمن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0" name="رابط كسهم مستقيم 21"/>
          <p:cNvCxnSpPr/>
          <p:nvPr/>
        </p:nvCxnSpPr>
        <p:spPr>
          <a:xfrm>
            <a:off x="6011640" y="40482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5148360" y="4319640"/>
            <a:ext cx="15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وب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>
            <a:off x="3924000" y="4076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3059280" y="4394160"/>
            <a:ext cx="158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اضح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24000" y="5805360"/>
            <a:ext cx="8665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فاضح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ا فضحت المنافقين وأظهرت مخازي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324000" y="6308640"/>
            <a:ext cx="8665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مخز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ا أخزت المنافقين بكشف أسرار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تأمين الكفار إذا رغبوا في سماع كلام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رابط مستقيم 19"/>
          <p:cNvSpPr/>
          <p:nvPr/>
        </p:nvSpPr>
        <p:spPr>
          <a:xfrm flipH="1">
            <a:off x="8817120" y="1662120"/>
            <a:ext cx="2880" cy="42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براءة من عهود المشرك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غلظة على الكفار المعاند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الجهاد في سبيل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رابط كسهم مستقيم 27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ح أهل الكتا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ن الغاية من الجهاد في سبيل إعلاء كلمة الله ونشر دي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رابط كسهم مستقيم 31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ح المنافق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33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ديث عن غزوة تبوك وجيش العس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رابط كسهم مستقيم 35"/>
          <p:cNvCxnSpPr/>
          <p:nvPr/>
        </p:nvCxnSpPr>
        <p:spPr>
          <a:xfrm flipH="1">
            <a:off x="8457480" y="5579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عنوان 1"/>
          <p:cNvSpPr/>
          <p:nvPr/>
        </p:nvSpPr>
        <p:spPr>
          <a:xfrm>
            <a:off x="252360" y="536400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قصة مسجد الضر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89" name="رابط كسهم مستقيم 38"/>
          <p:cNvCxnSpPr/>
          <p:nvPr/>
        </p:nvCxnSpPr>
        <p:spPr>
          <a:xfrm flipH="1">
            <a:off x="8456040" y="5940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عنوان 1"/>
          <p:cNvSpPr/>
          <p:nvPr/>
        </p:nvSpPr>
        <p:spPr>
          <a:xfrm>
            <a:off x="250920" y="5724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متنان الله على البشر ببعثه محمد </a:t>
            </a:r>
            <a:r>
              <a:rPr b="1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قيقة النفا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ظهار الإسلام وإبطان الكف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179280" y="2151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خبث النفس وفساد الباطن مع العجز عن إظهار ذلك المستو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وان 1"/>
          <p:cNvSpPr/>
          <p:nvPr/>
        </p:nvSpPr>
        <p:spPr>
          <a:xfrm>
            <a:off x="179280" y="2727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لجأ من ابتلي بالنفاق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ى التلون وإظهار الخير وإخفاء الش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179280" y="106380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ظاهر النفا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رابط مستقيم 7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رابط مستقيم 8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رابط كسهم مستقيم 9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رح بما يسوء المسلمين والحزن على ما يسر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رابط مستقيم 11"/>
          <p:cNvSpPr/>
          <p:nvPr/>
        </p:nvSpPr>
        <p:spPr>
          <a:xfrm>
            <a:off x="8820000" y="1662120"/>
            <a:ext cx="0" cy="34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رابط كسهم مستقيم 12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هزاؤهم بالدين وأه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رابط كسهم مستقيم 15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كيم القوانين الوض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رابط كسهم مستقيم 17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د يد العون لأعداء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رابط كسهم مستقيم 19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حاربة العف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رابط كسهم مستقيم 21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عجابهم بالكفار والتشبه ب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رابط كسهم مستقيم 23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يل إلى الشهوات ونشر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رابط كسهم مستقيم 25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رص على تثبيط أهل الإيم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1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2T06:19:51Z</dcterms:modified>
  <cp:revision>1783</cp:revision>
  <dc:subject/>
  <dc:title>عرض تقديمي في PowerPoint</dc:title>
</cp:coreProperties>
</file>